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1035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127EB-F855-493F-B258-B8E7CAAD7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970AF-EF17-403D-AB33-948C235D13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4A8C3-4C46-4B55-A8CA-825962555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41AE1-9127-419F-A0CC-E817932B65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25210-19DE-41E8-99AA-F3D458BA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5C1CE-0B5A-4983-91FA-19B83471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54D0C-1F50-43CA-B702-BAD191EE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47A86-5657-419D-AF35-851EF601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A458B-EF7A-4DA0-B740-0D921A4F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82184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AEFB7-2973-4D80-A5EC-67401D2A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A7852-873E-4017-A3EC-EA7F7144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7E3B4-A389-4729-9721-A851DCC91A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40FB4-D558-4169-886A-FA24C6FB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A5FE5-D0B2-43B5-9C9F-1C5C9F32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86623-6FF7-4944-8827-73EE2131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6E484-7C1D-4AAB-BE31-4A3B1B88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2EDAF-93ED-42FB-9F95-1FBB3FE8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513ED-CDF5-46C6-BF47-7140C2A1B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043C4-B7EA-4736-9930-376CCF472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BE56F-DA14-4F15-AC80-A8C2CF255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82184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93235-396F-4DEC-B4B3-CA64268BD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4C61E-7A04-494E-A25A-5B59FA64D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2610A-2B46-483E-9746-4A237A5BD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8F1D1-0924-4F16-9ABB-F02822C19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9350-4EAA-4469-9DC5-57E665EF7CFB}" type="slidenum"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40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Line 41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Line 42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Line 43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5" descr=""/>
          <p:cNvPicPr/>
          <p:nvPr/>
        </p:nvPicPr>
        <p:blipFill>
          <a:blip r:embed="rId2"/>
          <a:stretch/>
        </p:blipFill>
        <p:spPr>
          <a:xfrm>
            <a:off x="1979640" y="68400"/>
            <a:ext cx="5040360" cy="1199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D503-49AD-483E-9045-85E9A7CDCF18}" type="slidenum"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593720"/>
            <a:ext cx="8290080" cy="104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ИНТЕГРИСАНЕ</a:t>
            </a:r>
            <a:r>
              <a:rPr b="1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АКАДЕМСКЕ СТУДИЈЕ ФАРМАЦИЈЕ</a:t>
            </a:r>
            <a:br>
              <a:rPr sz="2500"/>
            </a:b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Издавање лекова у пракси</a:t>
            </a:r>
            <a:br>
              <a:rPr sz="2500"/>
            </a:br>
            <a:br>
              <a:rPr sz="1500"/>
            </a:br>
            <a:r>
              <a:rPr b="1" lang="sr-CS" sz="2500" spc="-1" strike="noStrike">
                <a:solidFill>
                  <a:srgbClr val="cc0000"/>
                </a:solidFill>
                <a:latin typeface="Candara"/>
              </a:rPr>
              <a:t>Предавање </a:t>
            </a:r>
            <a:r>
              <a:rPr b="1" lang="sr-Latn-CS" sz="2500" spc="-1" strike="noStrike">
                <a:solidFill>
                  <a:srgbClr val="cc0000"/>
                </a:solidFill>
                <a:latin typeface="Candara"/>
              </a:rPr>
              <a:t>8</a:t>
            </a:r>
            <a:endParaRPr b="1" lang="en-US" sz="25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3267000"/>
            <a:ext cx="828216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100" spc="-1" strike="noStrike">
                <a:solidFill>
                  <a:srgbClr val="000000"/>
                </a:solidFill>
                <a:latin typeface="Candara"/>
              </a:rPr>
              <a:t>K</a:t>
            </a:r>
            <a:r>
              <a:rPr b="1" lang="sr-CS" sz="4100" spc="-1" strike="noStrike">
                <a:solidFill>
                  <a:srgbClr val="000000"/>
                </a:solidFill>
                <a:latin typeface="Candara"/>
              </a:rPr>
              <a:t>ортикостероиди</a:t>
            </a:r>
            <a:endParaRPr b="0" lang="en-US" sz="41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1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1" i="1" lang="sr-CS" sz="3100" spc="-1" strike="noStrike">
                <a:solidFill>
                  <a:srgbClr val="000000"/>
                </a:solidFill>
                <a:latin typeface="Candara"/>
              </a:rPr>
              <a:t>Г</a:t>
            </a:r>
            <a:r>
              <a:rPr b="1" i="1" lang="en-US" sz="3100" spc="-1" strike="noStrike">
                <a:solidFill>
                  <a:srgbClr val="000000"/>
                </a:solidFill>
                <a:latin typeface="Candara"/>
              </a:rPr>
              <a:t>ликокортикоид</a:t>
            </a:r>
            <a:r>
              <a:rPr b="1" i="1" lang="sr-CS" sz="31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1" i="1" lang="sr-Latn-CS" sz="31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900" spc="-1" strike="noStrike">
                <a:solidFill>
                  <a:srgbClr val="cc0000"/>
                </a:solidFill>
                <a:latin typeface="Candara"/>
              </a:rPr>
              <a:t>Проф</a:t>
            </a:r>
            <a:r>
              <a:rPr b="1" lang="sr-Latn-CS" sz="2900" spc="-1" strike="noStrike">
                <a:solidFill>
                  <a:srgbClr val="cc0000"/>
                </a:solidFill>
                <a:latin typeface="Candara"/>
              </a:rPr>
              <a:t>. др Марко Фолић</a:t>
            </a: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7924680" cy="79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Интеракције</a:t>
            </a: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са другим</a:t>
            </a: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лековим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6304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Л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кови који индукују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микрозомне ензиме јетре истовремено убрзавају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и метаболизам гл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кокортикоида.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i="1" lang="sr-CS" sz="23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i="1" lang="en-US" sz="2300" spc="-1" strike="noStrike">
                <a:solidFill>
                  <a:srgbClr val="000000"/>
                </a:solidFill>
                <a:latin typeface="Candara"/>
              </a:rPr>
              <a:t>а пример,</a:t>
            </a:r>
            <a:r>
              <a:rPr b="0" i="1" lang="sr-Latn-CS" sz="2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Candara"/>
              </a:rPr>
              <a:t>уз истовремену терапију барбитуратима, рифампицином</a:t>
            </a:r>
            <a:r>
              <a:rPr b="0" i="1" lang="sr-Latn-CS" sz="2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Candara"/>
              </a:rPr>
              <a:t>или фенитоином, мо</a:t>
            </a:r>
            <a:r>
              <a:rPr b="0" i="1" lang="sr-Latn-CS" sz="23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i="1" lang="en-US" sz="2300" spc="-1" strike="noStrike">
                <a:solidFill>
                  <a:srgbClr val="000000"/>
                </a:solidFill>
                <a:latin typeface="Candara"/>
              </a:rPr>
              <a:t>е се указати потреба за</a:t>
            </a:r>
            <a:r>
              <a:rPr b="0" i="1" lang="sr-Latn-CS" sz="2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Candara"/>
              </a:rPr>
              <a:t>примен</a:t>
            </a:r>
            <a:r>
              <a:rPr b="0" i="1" lang="sr-Latn-CS" sz="2300" spc="-1" strike="noStrike">
                <a:solidFill>
                  <a:srgbClr val="000000"/>
                </a:solidFill>
                <a:latin typeface="Candara"/>
              </a:rPr>
              <a:t>ом</a:t>
            </a:r>
            <a:r>
              <a:rPr b="0" i="1" lang="en-US" sz="2300" spc="-1" strike="noStrike">
                <a:solidFill>
                  <a:srgbClr val="000000"/>
                </a:solidFill>
                <a:latin typeface="Candara"/>
              </a:rPr>
              <a:t> не</a:t>
            </a:r>
            <a:r>
              <a:rPr b="0" i="1" lang="sr-Latn-CS" sz="23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i="1" lang="en-US" sz="2300" spc="-1" strike="noStrike">
                <a:solidFill>
                  <a:srgbClr val="000000"/>
                </a:solidFill>
                <a:latin typeface="Candara"/>
              </a:rPr>
              <a:t>то ве</a:t>
            </a:r>
            <a:r>
              <a:rPr b="0" i="1" lang="sr-Latn-CS" sz="23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i="1" lang="en-US" sz="2300" spc="-1" strike="noStrike">
                <a:solidFill>
                  <a:srgbClr val="000000"/>
                </a:solidFill>
                <a:latin typeface="Candara"/>
              </a:rPr>
              <a:t>их доза гликокортикоида од</a:t>
            </a:r>
            <a:r>
              <a:rPr b="0" i="1" lang="sr-Latn-CS" sz="2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Candara"/>
              </a:rPr>
              <a:t>уоби</a:t>
            </a:r>
            <a:r>
              <a:rPr b="0" i="1" lang="sr-Latn-CS" sz="23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i="1" lang="en-US" sz="2300" spc="-1" strike="noStrike">
                <a:solidFill>
                  <a:srgbClr val="000000"/>
                </a:solidFill>
                <a:latin typeface="Candara"/>
              </a:rPr>
              <a:t>ајених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Инхибитори CYP 3A4, еритромицин, кетоконазол, итраконазол, орални контрацептиви или ритонавир успоравају м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т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аболи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сање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кортикостероида, чиме се повећава њихова концентрација у плазми.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Примена кортикостероида с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диуретицима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тиазид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и или фуросемид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може довести до прекомерног губитка калијума. Повећани ризик од хипокалијемије постоји и при истовременој примени с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амфотерицином Б или бронходилататорима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ксантини или β2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агонисти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Д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илтиазем смањује клиренс метилпреднизолона.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Кортикостероиди могу умањити ефекат антихолинестераза код миастеније гравис.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Треба их опрезно примењивати с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талидомидом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(описани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случајеви токсичне епидермалне некролизе при истовременој примени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Candara"/>
              </a:rPr>
              <a:t>Обратити пажњу!</a:t>
            </a:r>
            <a:endParaRPr b="1" lang="en-US" sz="3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Нежељена дејства се јављају после дуже примене кортикостероида; примена до 7 дана није удружена            са значајним нежељеним дејствима.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Када се кортикостероиди примењују дуже, престанак терапије мора бити постепен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може доћи до испољавања симптома и знакова инсуфицијенције коре надбубрега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Треба пажљиво следити процедуру фазног прекида терапије. </a:t>
            </a:r>
            <a:r>
              <a:rPr b="0" i="1" lang="sr-Latn-CS" sz="2500" spc="-1" strike="noStrike">
                <a:solidFill>
                  <a:srgbClr val="000000"/>
                </a:solidFill>
                <a:latin typeface="Candara"/>
              </a:rPr>
              <a:t>За потпуни опоравак функције надбубрега обично је потребно 2 месеца, мада он може да траје           18 или више месеци.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4920" y="4608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1" lang="en-US" sz="31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1" lang="sr-Latn-CS" sz="31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1" lang="en-US" sz="3100" spc="-1" strike="noStrike">
                <a:solidFill>
                  <a:srgbClr val="000000"/>
                </a:solidFill>
                <a:latin typeface="Candara"/>
              </a:rPr>
              <a:t>ељен</a:t>
            </a:r>
            <a:r>
              <a:rPr b="1" lang="sr-Latn-CS" sz="31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1" lang="en-US" sz="3100" spc="-1" strike="noStrike">
                <a:solidFill>
                  <a:srgbClr val="000000"/>
                </a:solidFill>
                <a:latin typeface="Candara"/>
              </a:rPr>
              <a:t> дејства</a:t>
            </a:r>
            <a:r>
              <a:rPr b="1" lang="sr-Latn-CS" sz="3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Candara"/>
              </a:rPr>
              <a:t>кортикостероид</a:t>
            </a:r>
            <a:r>
              <a:rPr b="1" lang="sr-Latn-CS" sz="3100" spc="-1" strike="noStrike">
                <a:solidFill>
                  <a:srgbClr val="000000"/>
                </a:solidFill>
                <a:latin typeface="Candara"/>
              </a:rPr>
              <a:t>а</a:t>
            </a:r>
            <a:endParaRPr b="1" lang="en-US" sz="3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42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Примењени у великим (фармаколо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ким) дозам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кортикостероиди имају доста н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љених дејстава.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ојава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ептичког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улкуса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остеопороз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, атрофиј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ко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хипертензиј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, катаракт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,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атрофиј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надбубрега (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први знак је адинамија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).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Хипокалијемија и хипохлоремичка алкалоза, са растом артеријског крвног притиска (може се избећи ограничавањем уношења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NaCl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и појачаним уношењем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KCl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овећан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ризик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развоја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инфекција гљивицама, вирусима и микобактеријама.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556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1" lang="en-US" sz="31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1" lang="sr-Latn-CS" sz="31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1" lang="en-US" sz="3100" spc="-1" strike="noStrike">
                <a:solidFill>
                  <a:srgbClr val="000000"/>
                </a:solidFill>
                <a:latin typeface="Candara"/>
              </a:rPr>
              <a:t>ељен</a:t>
            </a:r>
            <a:r>
              <a:rPr b="1" lang="sr-Latn-CS" sz="31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1" lang="en-US" sz="3100" spc="-1" strike="noStrike">
                <a:solidFill>
                  <a:srgbClr val="000000"/>
                </a:solidFill>
                <a:latin typeface="Candara"/>
              </a:rPr>
              <a:t> дејства</a:t>
            </a:r>
            <a:r>
              <a:rPr b="1" lang="sr-Latn-CS" sz="3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Candara"/>
              </a:rPr>
              <a:t>кортикостероид</a:t>
            </a:r>
            <a:r>
              <a:rPr b="1" lang="sr-Latn-CS" sz="3100" spc="-1" strike="noStrike">
                <a:solidFill>
                  <a:srgbClr val="000000"/>
                </a:solidFill>
                <a:latin typeface="Candara"/>
              </a:rPr>
              <a:t>а</a:t>
            </a:r>
            <a:endParaRPr b="1" lang="en-US" sz="3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353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Ја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тр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огени Cushing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ов синдром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(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Поремећај изазван високим нивоом кортизол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 у крви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римена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гликоко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рт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икоида ду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жа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 од 14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дана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мо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е про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зроковати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симптоме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/знаке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 јатрогеног Cushi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g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о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в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ог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синдрома: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о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ругло, подбуло лице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/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буфало торзо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хипергликемија и дијабетес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остео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ороза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акне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несаница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повећано абдоминално масно ткиво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поја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ана м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аљ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авост, наро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ито код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ен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а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истањеност коже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појава стрија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134360" y="-306360"/>
            <a:ext cx="1523880" cy="16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62828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Код деце, метаболички ефекти могу довести до инхибиције раста, чак и при изузетно малим дозама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 (</a:t>
            </a:r>
            <a:r>
              <a:rPr b="0" i="1" lang="sr-Latn-CS" sz="2300" spc="-1" strike="noStrike">
                <a:solidFill>
                  <a:srgbClr val="000000"/>
                </a:solidFill>
                <a:latin typeface="Candara"/>
              </a:rPr>
              <a:t>мада се то обично јавља тек</a:t>
            </a:r>
            <a:r>
              <a:rPr b="0" i="1" lang="sr-CS" sz="2300" spc="-1" strike="noStrike">
                <a:solidFill>
                  <a:srgbClr val="000000"/>
                </a:solidFill>
                <a:latin typeface="Candara"/>
              </a:rPr>
              <a:t> при </a:t>
            </a:r>
            <a:r>
              <a:rPr b="0" i="1" lang="sr-Latn-CS" sz="2300" spc="-1" strike="noStrike">
                <a:solidFill>
                  <a:srgbClr val="000000"/>
                </a:solidFill>
                <a:latin typeface="Candara"/>
              </a:rPr>
              <a:t>лечењ</a:t>
            </a:r>
            <a:r>
              <a:rPr b="0" i="1" lang="sr-CS" sz="23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i="1" lang="sr-Latn-CS" sz="2300" spc="-1" strike="noStrike">
                <a:solidFill>
                  <a:srgbClr val="000000"/>
                </a:solidFill>
                <a:latin typeface="Candara"/>
              </a:rPr>
              <a:t> дуже</a:t>
            </a:r>
            <a:r>
              <a:rPr b="0" i="1" lang="sr-CS" sz="2300" spc="-1" strike="noStrike">
                <a:solidFill>
                  <a:srgbClr val="000000"/>
                </a:solidFill>
                <a:latin typeface="Candara"/>
              </a:rPr>
              <a:t>м</a:t>
            </a:r>
            <a:r>
              <a:rPr b="0" i="1" lang="sr-Latn-CS" sz="2300" spc="-1" strike="noStrike">
                <a:solidFill>
                  <a:srgbClr val="000000"/>
                </a:solidFill>
                <a:latin typeface="Candara"/>
              </a:rPr>
              <a:t> од 6 месеци</a:t>
            </a:r>
            <a:r>
              <a:rPr b="0" i="1" lang="sr-CS" sz="23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i="1" lang="sr-Latn-CS" sz="23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Еуфорија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-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честа појава,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али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неки болесници могу постати депресивни.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овећан интракранијални притисак, хиперкоагулабилност крви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 менструални поремећаји.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Могућа је стимулација  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пораст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 глукозе у крви.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                                                         </a:t>
            </a:r>
            <a:r>
              <a:rPr b="0" i="1" lang="en-US" sz="2300" spc="-1" strike="noStrike">
                <a:solidFill>
                  <a:srgbClr val="000000"/>
                </a:solidFill>
                <a:latin typeface="Candara"/>
              </a:rPr>
              <a:t>Ниво шећера у крви дијабетичара мора се </a:t>
            </a:r>
            <a:r>
              <a:rPr b="0" i="1" lang="sr-CS" sz="2300" spc="-1" strike="noStrike">
                <a:solidFill>
                  <a:srgbClr val="000000"/>
                </a:solidFill>
                <a:latin typeface="Candara"/>
              </a:rPr>
              <a:t>редовно </a:t>
            </a:r>
            <a:r>
              <a:rPr b="0" i="1" lang="en-US" sz="2300" spc="-1" strike="noStrike">
                <a:solidFill>
                  <a:srgbClr val="000000"/>
                </a:solidFill>
                <a:latin typeface="Candara"/>
              </a:rPr>
              <a:t>пратити, нарочито уколико се у терапију уведу кортикостероиди, када се </a:t>
            </a:r>
            <a:r>
              <a:rPr b="0" i="1" lang="sr-CS" sz="2300" spc="-1" strike="noStrike">
                <a:solidFill>
                  <a:srgbClr val="000000"/>
                </a:solidFill>
                <a:latin typeface="Candara"/>
              </a:rPr>
              <a:t>они </a:t>
            </a:r>
            <a:r>
              <a:rPr b="0" i="1" lang="en-US" sz="2300" spc="-1" strike="noStrike">
                <a:solidFill>
                  <a:srgbClr val="000000"/>
                </a:solidFill>
                <a:latin typeface="Candara"/>
              </a:rPr>
              <a:t>укину или им се промени доза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395280" y="270000"/>
            <a:ext cx="821376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1" lang="en-US" sz="31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1" lang="sr-Latn-CS" sz="31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1" lang="en-US" sz="3100" spc="-1" strike="noStrike">
                <a:solidFill>
                  <a:srgbClr val="000000"/>
                </a:solidFill>
                <a:latin typeface="Candara"/>
              </a:rPr>
              <a:t>ељен</a:t>
            </a:r>
            <a:r>
              <a:rPr b="1" lang="sr-Latn-CS" sz="31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1" lang="en-US" sz="3100" spc="-1" strike="noStrike">
                <a:solidFill>
                  <a:srgbClr val="000000"/>
                </a:solidFill>
                <a:latin typeface="Candara"/>
              </a:rPr>
              <a:t> дејства</a:t>
            </a:r>
            <a:r>
              <a:rPr b="1" lang="sr-Latn-CS" sz="3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Candara"/>
              </a:rPr>
              <a:t>кортикостероид</a:t>
            </a:r>
            <a:r>
              <a:rPr b="1" lang="sr-Latn-CS" sz="3100" spc="-1" strike="noStrike">
                <a:solidFill>
                  <a:srgbClr val="000000"/>
                </a:solidFill>
                <a:latin typeface="Candara"/>
              </a:rPr>
              <a:t>а</a:t>
            </a: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680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ри л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окалн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ој примени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: пролазни кожни осип, пецкање, надраженост, сува кожа, црвенило, свраб или стварање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крастица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”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Инхалациони кортикостероиди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– локална нежељена дејства: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Промуклост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Орална кандидијаз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Рефлексни кашаљ или бронхоспазам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77000" y="199080"/>
            <a:ext cx="8054280" cy="113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1" lang="en-US" sz="31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1" lang="sr-Latn-CS" sz="31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1" lang="en-US" sz="3100" spc="-1" strike="noStrike">
                <a:solidFill>
                  <a:srgbClr val="000000"/>
                </a:solidFill>
                <a:latin typeface="Candara"/>
              </a:rPr>
              <a:t>ељен</a:t>
            </a:r>
            <a:r>
              <a:rPr b="1" lang="sr-Latn-CS" sz="31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1" lang="en-US" sz="3100" spc="-1" strike="noStrike">
                <a:solidFill>
                  <a:srgbClr val="000000"/>
                </a:solidFill>
                <a:latin typeface="Candara"/>
              </a:rPr>
              <a:t> дејства</a:t>
            </a:r>
            <a:r>
              <a:rPr b="1" lang="sr-Latn-CS" sz="3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Candara"/>
              </a:rPr>
              <a:t>кортикостероид</a:t>
            </a:r>
            <a:r>
              <a:rPr b="1" lang="sr-Latn-CS" sz="3100" spc="-1" strike="noStrike">
                <a:solidFill>
                  <a:srgbClr val="000000"/>
                </a:solidFill>
                <a:latin typeface="Candara"/>
              </a:rPr>
              <a:t>а</a:t>
            </a:r>
            <a:endParaRPr b="1" lang="en-US" sz="31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95120"/>
            <a:ext cx="8218440" cy="114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ndara"/>
              </a:rPr>
              <a:t>Контраиндикације</a:t>
            </a:r>
            <a:endParaRPr b="1" lang="en-US" sz="3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ептички улкус, срчана инсуфицијенција са хипертензијом, психозе, остеопороза, дијабетес мелитус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глауком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инфекције (посебно уколико се истовремено не примењују антимикробни лекови)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вакцинација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живи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м”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вакцина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ма.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95120"/>
            <a:ext cx="8218440" cy="114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У епилогу...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Упркос нежељеним дејствима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бројним интеракцијама, кортикостероиди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су 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веома значајна група лекова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35880" indent="-33588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репору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ке за 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смањ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ење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/избег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авање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нежељени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х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ефек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т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гликокортикоида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користити најмањ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ефикасн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доз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у 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најкраће могућ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ем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време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нском периоду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а 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дневне потребе, кад год је то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изводљиво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задовољити кроз 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једн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јутарњ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доз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у,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или чак, уколико је то 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могуће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, примењивати их 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сваког другог дана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35880" indent="-33588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 u="sng">
                <a:solidFill>
                  <a:srgbClr val="000000"/>
                </a:solidFill>
                <a:uFillTx/>
                <a:latin typeface="Candara"/>
              </a:rPr>
              <a:t>Углавном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употреба кортикостероида код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поменутих 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болести само ублажава или уклања симптоме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али најчешће не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одстрањује 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разлоге настанка болести. </a:t>
            </a:r>
            <a:r>
              <a:rPr b="0" i="1" lang="en-US" sz="2200" spc="-1" strike="noStrike">
                <a:solidFill>
                  <a:srgbClr val="000000"/>
                </a:solidFill>
                <a:latin typeface="Candara"/>
              </a:rPr>
              <a:t>Кортикостероиде има смисла користити када </a:t>
            </a:r>
            <a:r>
              <a:rPr b="0" i="1" lang="sr-CS" sz="2200" spc="-1" strike="noStrike">
                <a:solidFill>
                  <a:srgbClr val="000000"/>
                </a:solidFill>
                <a:latin typeface="Candara"/>
              </a:rPr>
              <a:t>се </a:t>
            </a:r>
            <a:r>
              <a:rPr b="0" i="1" lang="en-US" sz="2200" spc="-1" strike="noStrike">
                <a:solidFill>
                  <a:srgbClr val="000000"/>
                </a:solidFill>
                <a:latin typeface="Candara"/>
              </a:rPr>
              <a:t>паралелно с</a:t>
            </a:r>
            <a:r>
              <a:rPr b="0" i="1" lang="sr-CS" sz="22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i="1" lang="en-US" sz="2200" spc="-1" strike="noStrike">
                <a:solidFill>
                  <a:srgbClr val="000000"/>
                </a:solidFill>
                <a:latin typeface="Candara"/>
              </a:rPr>
              <a:t> лечењем симптома </a:t>
            </a:r>
            <a:r>
              <a:rPr b="0" i="1" lang="sr-CS" sz="2200" spc="-1" strike="noStrike">
                <a:solidFill>
                  <a:srgbClr val="000000"/>
                </a:solidFill>
                <a:latin typeface="Candara"/>
              </a:rPr>
              <a:t>медицира </a:t>
            </a:r>
            <a:r>
              <a:rPr b="0" i="1" lang="en-US" sz="2200" spc="-1" strike="noStrike">
                <a:solidFill>
                  <a:srgbClr val="000000"/>
                </a:solidFill>
                <a:latin typeface="Candara"/>
              </a:rPr>
              <a:t>и узрок настанка болести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Кортизол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1961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Најв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нији природни гликокортикоид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код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овека је кортизол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(хидрокортизон)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Овај хормон се синтети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 из холестерола у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zona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fasciculat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”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надбубр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не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жл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зд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екретује се под контролом осовине хипоталамус – хипофиза – надбубрежна жлезда; негативна повратна регулација синтезе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Секреција показује циркадиј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ал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ни ритам.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Биотрансформаци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ј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а кортизола одиграва се у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јетри, коњуговањем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, при чему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се стварају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хидросолубилни деривати ко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р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т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изола који се излу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ују у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урину.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Механизам деловања</a:t>
            </a: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 гликокортикоид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Након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уласк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у ткив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гликокортикоиди дифундују кроз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лијске мембран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и у унутр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њости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лије везују се за гликокортикоидни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рецептор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лоциран на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посебном типу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протеина (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heatshock протеин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”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).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Т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ај протеин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е потом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ослоб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ђ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а и, као хормон-рецепторни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омпл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с,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тр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анспортује у једро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где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реагује с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посебним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“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гликоко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рт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икоидним елементим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”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н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разли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итим геним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доводећи до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кспресиј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истих.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лини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ки ефекти испољавају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е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после латентног периода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(30 минута).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Метаболички е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фект</a:t>
            </a: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 кортизол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0629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Кортизол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нхибира гликолизу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ове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ава синтезу гликогена у фази гладовања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ове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ава ниво глукозе у крви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нтензификује гликонеогенезу у јетри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оспе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ује липолизу и протеолизу у ми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ном и масном ткиву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Такође, кортизол делује...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0908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нтиинфламаторно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нтиедематозно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муносупресивно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нтинеопласти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но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Катаболички на везивно ткиво, кожу, мишиће, коштано и масно ткиво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мањ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ује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 број лимфоцита, еозинофила, базофила и моноцита,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а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доводи до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пораст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 броја неутрофила, тромбоцита и еритроцита у крви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Током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 последњих недеља гестације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, н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еопходан за нормално сазревање сурфактанта у плу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има фетуса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1714680"/>
            <a:ext cx="8064360" cy="44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Појам кортикостероиди се односи на природне хормоне које производ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надбубрежн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жлезд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, као и вештачки произведене облике тих хормона.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Кортикостероиди су снажни лекови који се прописују код бројних болести различите тежине, од кожног осипа до мултипле склерозе.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ndara"/>
              </a:rPr>
              <a:t>Пошто делују на скоро све делове организма, ови лекови се морају опрезно користити.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Гл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кокортикоиди се могу применити на различите начине.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Већина је активна након оралне примене.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М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огу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се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да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вати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системски, интрамускуларно или интравенски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локално – убризгати у зглобни простор (интраартикуларно), дати у виду аеросола у респираторни тракт (инхалација), применити у облику капи за очи или нос, или нанети у виду крема или масти на кожу.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4608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Candara"/>
              </a:rPr>
              <a:t>Неколико примера...</a:t>
            </a:r>
            <a:endParaRPr b="1" lang="en-US" sz="3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76928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Системска примена: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36840" indent="-31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реднизон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36840" indent="-31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реднизолон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36840" indent="-31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етил-преднизолон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36840" indent="-31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Candara"/>
              </a:rPr>
              <a:t>кс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метазон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36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Л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окалн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примен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а: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36840" indent="-31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Аклометазон</a:t>
            </a:r>
            <a:r>
              <a:rPr b="0" lang="sr-Latn-CS" sz="20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36840" indent="-31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Бетаметазон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36840" indent="-31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Дезоксиметазон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36840" indent="-31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Ф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луокортолон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36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нхалаци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она примена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36840" indent="-31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еклометазон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36840" indent="-31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удесонид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36840" indent="-31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Циклесонид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36840" indent="-31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ndara"/>
              </a:rPr>
              <a:t>Флутиказон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4608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Примена кортикостерид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Кортикостероиди се користе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 код: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22800" indent="-312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недовољног лучења гл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кокортикоида из коре надбубрежне жлезде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супституцион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терапиј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22800" indent="-312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утоимуних болест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22800" indent="-312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лергијских реакциј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22800" indent="-312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стме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22800" indent="-312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едема мозга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22800" indent="-312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хематолошких поремећаја (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лимфати</a:t>
            </a:r>
            <a:r>
              <a:rPr b="0" lang="sr-Latn-CS" sz="20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леукемија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22800" indent="-312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але ока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22800" indent="-312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за спре</a:t>
            </a:r>
            <a:r>
              <a:rPr b="0" lang="sr-Latn-CS" sz="20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вање одбацивања трансплантат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22800" indent="-312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запаљенск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их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болести дигестивног тракта (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лцерозни колитис, Cro</a:t>
            </a:r>
            <a:r>
              <a:rPr b="0" lang="sr-Latn-CS" sz="2000" spc="-1" strike="noStrike">
                <a:solidFill>
                  <a:srgbClr val="000000"/>
                </a:solidFill>
                <a:latin typeface="Candar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n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ова болест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22800" indent="-312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запаљења костију и зглобов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22800" indent="-312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andara"/>
              </a:rPr>
              <a:t>ле</a:t>
            </a:r>
            <a:r>
              <a:rPr b="0" i="1" lang="sr-Latn-CS" sz="19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i="1" lang="en-US" sz="1900" spc="-1" strike="noStrike">
                <a:solidFill>
                  <a:srgbClr val="000000"/>
                </a:solidFill>
                <a:latin typeface="Candara"/>
              </a:rPr>
              <a:t>ењу уро</a:t>
            </a:r>
            <a:r>
              <a:rPr b="0" i="1" lang="sr-Latn-CS" sz="1900" spc="-1" strike="noStrike">
                <a:solidFill>
                  <a:srgbClr val="000000"/>
                </a:solidFill>
                <a:latin typeface="Candara"/>
              </a:rPr>
              <a:t>ђ</a:t>
            </a:r>
            <a:r>
              <a:rPr b="0" i="1" lang="en-US" sz="1900" spc="-1" strike="noStrike">
                <a:solidFill>
                  <a:srgbClr val="000000"/>
                </a:solidFill>
                <a:latin typeface="Candara"/>
              </a:rPr>
              <a:t>ене хиперплазије коре надбубрега</a:t>
            </a:r>
            <a:r>
              <a:rPr b="0" i="1" lang="sr-Latn-CS" sz="1900" spc="-1" strike="noStrike">
                <a:solidFill>
                  <a:srgbClr val="000000"/>
                </a:solidFill>
                <a:latin typeface="Candara"/>
              </a:rPr>
              <a:t> (</a:t>
            </a:r>
            <a:r>
              <a:rPr b="0" i="1" lang="en-US" sz="1900" spc="-1" strike="noStrike">
                <a:solidFill>
                  <a:srgbClr val="000000"/>
                </a:solidFill>
                <a:latin typeface="Candara"/>
              </a:rPr>
              <a:t>хиперплазија настаје због дефицитарне синтезе кортизола и следствен</a:t>
            </a:r>
            <a:r>
              <a:rPr b="0" i="1" lang="sr-Latn-CS" sz="19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i="1" lang="en-US" sz="1900" spc="-1" strike="noStrike">
                <a:solidFill>
                  <a:srgbClr val="000000"/>
                </a:solidFill>
                <a:latin typeface="Candara"/>
              </a:rPr>
              <a:t> ве</a:t>
            </a:r>
            <a:r>
              <a:rPr b="0" i="1" lang="sr-Latn-CS" sz="19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i="1" lang="en-US" sz="1900" spc="-1" strike="noStrike">
                <a:solidFill>
                  <a:srgbClr val="000000"/>
                </a:solidFill>
                <a:latin typeface="Candara"/>
              </a:rPr>
              <a:t>е секреције ACTH</a:t>
            </a:r>
            <a:r>
              <a:rPr b="0" i="1" lang="sr-Latn-CS" sz="19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i="1" lang="sr-CS" sz="1900" spc="-1" strike="noStrike">
                <a:solidFill>
                  <a:srgbClr val="000000"/>
                </a:solidFill>
                <a:latin typeface="Candara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1:20:01Z</dcterms:created>
  <dc:creator>Marko</dc:creator>
  <dc:description/>
  <dc:language>en-US</dc:language>
  <cp:lastModifiedBy>Marko</cp:lastModifiedBy>
  <dcterms:modified xsi:type="dcterms:W3CDTF">2018-02-01T16:35:18Z</dcterms:modified>
  <cp:revision>204</cp:revision>
  <dc:subject>Klinicki farmakolog</dc:subject>
  <dc:title>Predavanje za sajt fakulteta</dc:title>
</cp:coreProperties>
</file>